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2E5CF-6401-4950-A6D9-8A9D428E9D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El Marco promociona el uso del portfolio como 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A1A3-9C8B-4C6D-AD86-63F799EE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669-43C8-4259-9C63-F3A0B4A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9EF-2B4B-49BE-9145-C084C788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075-6D1A-46BC-97F7-9711B97F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E38CD-92E0-4B33-9B32-2FD9C896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24CA-06CE-4C67-98F3-57947F48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18515-C727-49C3-8BA0-5D2689E2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3208B-7DAA-40D3-AA62-99BA3E3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A0F4-7D92-4E85-962B-426E4926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5B842-9641-4E0C-8425-AEADB360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61682-4354-4AF9-B273-653D20F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619-509F-4093-92F2-DD236CEE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DC838-1E9A-490D-B873-3C9B47A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B00D8-7AB3-47C3-86F9-7105078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67FC6-60F4-4149-81F9-550A7DDD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5811-5CF2-4A3C-841B-8229BB95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DB81-B884-4EDC-A948-8C2BB9FD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AE16-51D3-4C75-8C0C-5DB1FBDD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C6BDD-C06D-42F9-880C-EA34B368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814F-3A9A-4B2E-9DDF-C4C8580B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C5D7-5641-4C3B-99A2-186A8D2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BE918-F52B-4DEB-8BCD-1061F449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5CE-ABB0-4F44-835F-2798E7A3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1E1F-7144-4464-86BD-D253AA1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0A1B-7D7B-4635-B3F8-7E51ECB1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F3DE-BFA2-483F-9EEB-A71F14B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7520-678A-4C02-AC3D-0BF25333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DB93-C02F-4EB8-AD40-74279989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DBC7-605D-45D4-9E5D-2D590A31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EEEF-2E3C-456A-8B8D-062B7BC6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BE0-B3DE-48D6-BDDA-C08304E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48C-EBD7-4D02-B449-10EE711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327-3A6C-490C-9255-69AD3137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093-544F-46A7-96C6-CFFEF8D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3D3-5840-42F9-8C9E-51BFE9B5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12AF-384C-4FD7-95D5-3D2E25F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F20330-BACF-4E25-B10C-5D56B1FC43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F21989-EC35-4D89-9ECC-3C0E6629F480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65D71B-C3B7-4963-9658-46BD23A3B2EE}" type="slidenum">
              <a:rPr b="0" lang="en-GB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2420640"/>
            <a:ext cx="7859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Tahoma"/>
              </a:rPr>
              <a:t>NUESTRO AMIG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Tahoma"/>
              </a:rPr>
              <a:t>EL PORTFOLI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7679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2. FUNCIONES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L P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095640" cy="1947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64000" y="4149720"/>
            <a:ext cx="3097440" cy="201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57200" y="380880"/>
            <a:ext cx="8229600" cy="5792760"/>
            <a:chOff x="457200" y="380880"/>
            <a:chExt cx="8229600" cy="5792760"/>
          </a:xfrm>
        </p:grpSpPr>
        <p:sp>
          <p:nvSpPr>
            <p:cNvPr id="217" name=""/>
            <p:cNvSpPr/>
            <p:nvPr/>
          </p:nvSpPr>
          <p:spPr>
            <a:xfrm>
              <a:off x="457200" y="380880"/>
              <a:ext cx="8229600" cy="579276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769840" y="2058480"/>
              <a:ext cx="1384200" cy="884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1280" y="1197000"/>
              <a:ext cx="2589120" cy="1293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Transpa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 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625480" y="3395520"/>
              <a:ext cx="1423800" cy="320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3141720"/>
              <a:ext cx="2085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ocumen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130560" y="3760920"/>
              <a:ext cx="1209600" cy="1323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9640" y="4653000"/>
              <a:ext cx="201456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form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5280" y="3760920"/>
              <a:ext cx="774720" cy="1036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19640" y="4653000"/>
              <a:ext cx="194472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eflex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5800" y="3397320"/>
              <a:ext cx="1347840" cy="176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12000" y="2852640"/>
              <a:ext cx="2592360" cy="1293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oncienciad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lurilingüís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992840" y="2131920"/>
              <a:ext cx="1666800" cy="81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72360" y="1197000"/>
              <a:ext cx="194472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otivad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72000" y="1627200"/>
              <a:ext cx="1440" cy="1114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8360" y="692280"/>
              <a:ext cx="215892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edagóg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64000" y="2739960"/>
              <a:ext cx="1944720" cy="1077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0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¿PARA QUÉ SIR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a reflexionar acerca del propio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a autoevalu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ra presentar las habilidades y la certificación del conocimiento de la lengua en cualquier idioma, nivel y manera en que haya sido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duce al EURO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940360" y="4941720"/>
            <a:ext cx="2455920" cy="13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UTILIDADES DEL PEL PARA EL ALUMN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rmite que el aprend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ablezca su nivel de competencia en cada lengua y dest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ga unos niveles comunes de referen-cia para toda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a a autoevalua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 objeividad, ya que su Portfolio se refrendará con certificaciones o entrev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endo el protagonista en la evaluación de su proceso de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 un entrenamiento para su incorporación a la vida laboral (Europass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34900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3. CARACTERÍSTICAS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Y DOCUMENTOS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DEL P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1. ¿CÓMO ES EL P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ácil de ent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 fácil mane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tenece al aprend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idado por el Consejo de Eu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 DOCUMENTOS DEL 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s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sa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84720" y="3716280"/>
            <a:ext cx="4038480" cy="245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.1 B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ario/registro del aprendizaje y uso del idi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.2 DOSS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iene el trabajo personal del alu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nido variable a lo larg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3.2.3 PASAP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chivo de lo consegu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ia ofi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criptores según el MCER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b0ee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33520" y="380880"/>
            <a:ext cx="8135640" cy="6120000"/>
            <a:chOff x="533520" y="380880"/>
            <a:chExt cx="8135640" cy="6120000"/>
          </a:xfrm>
        </p:grpSpPr>
        <p:sp>
          <p:nvSpPr>
            <p:cNvPr id="176" name=""/>
            <p:cNvSpPr/>
            <p:nvPr/>
          </p:nvSpPr>
          <p:spPr>
            <a:xfrm>
              <a:off x="533520" y="380880"/>
              <a:ext cx="8135640" cy="6120000"/>
            </a:xfrm>
            <a:prstGeom prst="roundRect">
              <a:avLst>
                <a:gd name="adj" fmla="val 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476440" y="3405240"/>
              <a:ext cx="1370160" cy="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2612880"/>
              <a:ext cx="2089080" cy="15843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uesta 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ác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7160" y="3860640"/>
              <a:ext cx="6120" cy="9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97160" y="4557600"/>
              <a:ext cx="2808360" cy="183528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aracterís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Y docu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2000" y="3429000"/>
              <a:ext cx="93024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26240" y="2684520"/>
              <a:ext cx="1873080" cy="15843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637160" y="1674360"/>
              <a:ext cx="1440" cy="101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7520" y="596880"/>
              <a:ext cx="2158920" cy="10778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én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81160" y="2541600"/>
              <a:ext cx="3168720" cy="15127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L PORTFOL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19204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4. PUESTA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EN PRÁC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1. TIPOS DE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im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ecund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du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2. BIBLIOGRAF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uías didácticas de cada ni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moria de experi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forme de experiencia pil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464760"/>
            <a:ext cx="8435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3 IMPRESIONES MÁS RELEV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yuda al 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(siempre es alentador)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iene efectos positivos sobre el proceso y el resultado del aprendizaje y la motivación del aprend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vorece en el alumnado una imagen más ajustada de sí m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4 INQUIE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abajo y esfuerzo no muy bien enten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¿Hay un balance positivo entre el aporte necesario y los beneficios visibles de trabajar con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 más trabajo para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s alumnos tienden a sobrevalor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4.5 CÓMO ADAPTAR LOS DESCRIP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º Eleg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vele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º Identificar descriptores correspo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º Adaptar 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vid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ecifi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ific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21999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4.6 ALGUNOS CASOS PRÁCT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70580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01. GÉNESIS DEL PORTFOL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7353360" cy="34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1. EL CONSEJO DE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2184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7 PAÍSES deciden construir una gran Europa basada en valores compartidos, incluyendo la tolerancia y el respeto hacia la diversidad cultural y lingü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3716280"/>
            <a:ext cx="576360" cy="1297080"/>
          </a:xfrm>
          <a:prstGeom prst="downArrow">
            <a:avLst>
              <a:gd name="adj1" fmla="val 50000"/>
              <a:gd name="adj2" fmla="val 56262"/>
            </a:avLst>
          </a:prstGeom>
          <a:gradFill rotWithShape="0">
            <a:gsLst>
              <a:gs pos="0">
                <a:srgbClr val="0066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472428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5084640"/>
            <a:ext cx="1409760" cy="486000"/>
          </a:xfrm>
          <a:prstGeom prst="leftArrow">
            <a:avLst>
              <a:gd name="adj1" fmla="val 50000"/>
              <a:gd name="adj2" fmla="val 72519"/>
            </a:avLst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149720"/>
            <a:ext cx="3959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ARCO COMÚN EUROPEO DE REFERENCIA PARA LAS LENGUAS</a:t>
            </a:r>
            <a:br>
              <a:rPr sz="3000"/>
            </a:b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(MCERL)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569080" cy="72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 EL MCER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tablece escalas que definen la competencia lingüística del usuario. Esas escalas se agrupan en tres niv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27640" y="1628640"/>
            <a:ext cx="4038480" cy="4525920"/>
            <a:chOff x="4427640" y="1628640"/>
            <a:chExt cx="4038480" cy="4525920"/>
          </a:xfrm>
        </p:grpSpPr>
        <p:sp>
          <p:nvSpPr>
            <p:cNvPr id="198" name=""/>
            <p:cNvSpPr/>
            <p:nvPr/>
          </p:nvSpPr>
          <p:spPr>
            <a:xfrm>
              <a:off x="4427640" y="1628640"/>
              <a:ext cx="4038480" cy="4525920"/>
            </a:xfrm>
            <a:custGeom>
              <a:avLst/>
              <a:gdLst>
                <a:gd name="textAreaLeft" fmla="*/ 360 w 4038480"/>
                <a:gd name="textAreaRight" fmla="*/ 4038120 w 4038480"/>
                <a:gd name="textAreaTop" fmla="*/ 360 h 4525920"/>
                <a:gd name="textAreaBottom" fmla="*/ 4525560 h 4525920"/>
              </a:gdLst>
              <a:ahLst/>
              <a:rect l="textAreaLeft" t="textAreaTop" r="textAreaRight" b="textAreaBottom"/>
              <a:pathLst>
                <a:path w="21600" h="24207">
                  <a:moveTo>
                    <a:pt x="8" y="0"/>
                  </a:moveTo>
                  <a:arcTo wR="8" hR="8" stAng="16200000" swAng="-5400000"/>
                  <a:lnTo>
                    <a:pt x="0" y="24199"/>
                  </a:lnTo>
                  <a:arcTo wR="8" hR="8" stAng="10800000" swAng="-5400000"/>
                  <a:lnTo>
                    <a:pt x="21592" y="24207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427640" y="447444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uario bás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100480" y="3307680"/>
              <a:ext cx="2692440" cy="1166760"/>
            </a:xfrm>
            <a:custGeom>
              <a:avLst/>
              <a:gdLst>
                <a:gd name="textAreaLeft" fmla="*/ 591840 w 2692440"/>
                <a:gd name="textAreaRight" fmla="*/ 2100600 w 269244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uario independ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73680" y="214236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Usuario exper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1 LOS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UARIO BÁSICO (750-800 PALABRAS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1: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2: PLATA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UARIO INDEPENDIENTE (1500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1: UMB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2: AVAN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UARIO EXPERTO (3500)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1: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2: MAEST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2 LOS NIV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489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da nivel recoge una serie de descrip-tores como refer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54356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3 LOS DESCRIP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os: “Puedo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enen una secuencia estándar de anál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arcan todas las habilidades: recepción, producción, interacció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s escalas son independientes: podemos estar en distintos puntos de la escala en las distintas h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01.2.4 PORTFOLIO EUROPEO DE LAS LENGUAS (PEL)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87640" y="3500280"/>
            <a:ext cx="56167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Herramienta práctica para ayudar a la gente de todas las edades y  orígenes a aprender más lenguas y a conocer más cultu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844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mo aplicación del MCERL nace el P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3213000"/>
            <a:ext cx="934920" cy="1862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327600 h 1862280"/>
              <a:gd name="textAreaBottom" fmla="*/ 1344960 h 186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p</dc:creator>
  <dc:description/>
  <dc:language>en-US</dc:language>
  <cp:lastModifiedBy>pep</cp:lastModifiedBy>
  <cp:revision>0</cp:revision>
  <dc:subject/>
  <dc:title>GÉNESIS DEL PORTFOLIO</dc:title>
</cp:coreProperties>
</file>